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161-6B22-4404-9442-C19117A2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4E6-F3DE-49A2-A41D-B7FD506E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D47-A6B9-4B6F-A636-3EC9D809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66A-74B2-43E5-AD76-7F4F48A4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609-F9E3-40A5-BC56-CD0E2CB6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120-CA70-4CD3-A0AE-3E269F85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D5A-D55F-4CAA-BB2A-E881E769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A6C-B697-4C32-B0B0-AF84A686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1F6-D650-4600-99A4-F4C075C6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555-56EC-4425-A768-9806D2C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3EA-87D5-4C48-8A44-AF914618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4FE-A065-4211-8C35-FBDF22D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4FA56-EF78-4738-AB86-2A07F08EA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ain's Relationship with the Colonies:  1700-17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27080" y="1690560"/>
            <a:ext cx="653112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rcanti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conomic system in which a country controls trade with its colonies, and sells more than it buys, in order to make a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British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controlled the price of goods, as the colonists could only sell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could trade these products with other countries (like Spain or the Nether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colonists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a guaranteed market (in Britain) for thei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system hurt the colon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evented them from trading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lony did not have a product that the home country needed, it struggled to ge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mplemente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Parliament (their elected legisl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60's/1670's (after the Glorious Rev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ules did they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de had to use British-owned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mports had to go through British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products (sugar, tobacco, lumber, cotton, wool) could only be traded with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ation Act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intain British economic control over th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y well enfor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After the Glorious Revolution, British Parliament did not tightly oversee the colonies, and colonial assemblies mostly governed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utary Negl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ritish gov't (Crown and Parliament) relaxed its control over the colonies, as both sides seemed to be benef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and its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/colonists and their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 of the larger “7 Years War” between France and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about colonial territorial pos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won, gained land with the Treaty of Paris (17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torial changes from the Peace of Paris (17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8115120" cy="59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9372600" cy="67579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87000"/>
          </a:bodyPr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id the French and Indian War change British enforcement of the Navigation A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went into debt from war and tightened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war, there were more British troops stationed in the colonies, so they could enforce laws more stri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as the relationship between colonists and Great Britain evolv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gainst the French had somewhat united the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imination of France as a threat made them feel more independent (and less in need of British prot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2:42:36Z</dcterms:created>
  <dc:creator/>
  <dc:description/>
  <dc:language>en-US</dc:language>
  <cp:lastModifiedBy/>
  <cp:revision>1</cp:revision>
  <dc:subject/>
  <dc:title/>
</cp:coreProperties>
</file>